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25F-5D71-4422-8BBD-2D2E4EA2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6A6-D89F-41CD-9702-341007FB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C42-4CB6-41AF-A620-988A708D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3E2-35CD-44F7-9EEC-44B8C93A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FE9-6E19-441F-A95C-B6D3582F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A95-ED69-4602-9A2B-ECE5CE2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6BF-A8C7-469E-B3D0-B32A42CE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1E1-CD7C-4B49-8CF5-0146C698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7C0-E71C-4EC0-86A3-6B4E089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BB6-6585-429D-8D77-07F17BC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3BE-854C-4FC8-AD20-C682C1C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95-B0AB-439F-87CA-744A2B7D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FCC-19BB-4894-B4FB-CFD814F4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40:24Z</dcterms:created>
  <dc:creator>Grupo Editorial</dc:creator>
  <dc:description/>
  <dc:language>en-US</dc:language>
  <cp:lastModifiedBy>Grupo Editorial</cp:lastModifiedBy>
  <dcterms:modified xsi:type="dcterms:W3CDTF">2001-09-27T15:49:48Z</dcterms:modified>
  <cp:revision>1</cp:revision>
  <dc:subject/>
  <dc:title>Sin título de diapositiva</dc:title>
</cp:coreProperties>
</file>